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91F-FC60-47A8-8DFE-11AED5C2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DA2-FEDD-4968-9FBC-5154A0AB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4D5-9D8A-4B25-9D08-536C1299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903-0F16-4618-A536-A7AB28C3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DCC-05AF-422C-8D94-F3843257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507-B899-4EF1-847B-B5D5DEC5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AA3-B254-4C22-B39C-496842D2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D45-DF45-42DE-B59F-6F31E251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D9B-E247-48D2-9CFA-33D85010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0D1-9AB9-4016-A2E9-99744E9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667-8702-4A0F-BD4C-46CBD68A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71D-6135-462A-B5FB-29244B03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3D84-7CC1-46A4-A8B9-037E2BCFD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orespiratory Phys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l/oral ca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glot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eoli/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Phys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alation/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alation/ex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/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/bodily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s of Respiratory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 Flow (max. only)/Spirometry (full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– steroids/anti-inflamm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– asthma,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– exercise, low O2 levels, anxiety/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– sleep, relaxation, depres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2/CO2 levels – blood tests/pulse ox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/Dec – higher O2 levels in air, hyperventilation, m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/Inc – Low O2 in air, di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s of Circulatory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– exercise, stress, anxiety, stimu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– relaxation, depressants,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7:32:25Z</dcterms:created>
  <dc:creator>Administrator</dc:creator>
  <dc:description/>
  <dc:language>en-US</dc:language>
  <cp:lastModifiedBy>Administrator</cp:lastModifiedBy>
  <dcterms:modified xsi:type="dcterms:W3CDTF">2010-03-16T14:02:37Z</dcterms:modified>
  <cp:revision>5</cp:revision>
  <dc:subject/>
  <dc:title>Circulatory</dc:title>
</cp:coreProperties>
</file>